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F9848-BE6D-492E-88BD-1A1968D2F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7F48-4EEF-493C-8529-85B55C2C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3407A-0999-4345-8484-7EA64F50F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F3654-7191-4621-B06C-1B8EB59F5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44E16-6B87-4CE2-9DE2-AEA5F1474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E4713-9778-4972-A25A-DC365B27A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203B7-D46E-4703-AD15-F21B34138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DB165-A716-4CF1-B789-8A1AEE93D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6573-3D48-4718-8638-212DDF112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8D482-54B5-4CD7-8176-B42A78E63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398AF-3B06-492B-81B6-C3B0C84F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214D9-6A1D-4E27-AF82-92EF4792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E2C8C-7C77-44E9-982B-C26469BD0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CBDCA-C565-4FE9-B9C2-6A5EE7306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5B4C6-C508-403B-9FCA-35971AB1F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F1952-FA22-40FE-BE20-481C04778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06BBB-2963-4135-86AE-03EC123BE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13EDD-6A21-46D0-AEFF-E6FC0AFF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2164E-5CB8-431E-B2EB-4F30DE4E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C6A7-42BE-473B-BFFA-32511FC1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5998-2051-42EB-8106-9F3D21D3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2507-7B29-44B6-9A04-66D5071B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B36A-823D-4F45-8127-B5C6BFD2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8971-1D3B-4D6E-8121-928BAADD6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C050-968F-4DA9-BE90-F55726C586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0AA0-B781-4BFB-B678-F327DD620B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roblems (Section 14.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7-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7"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re the same except at </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4.3 Assess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25-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33"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41"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42"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43"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6" name="Picture 5" descr="diffusion"/>
          <p:cNvPicPr/>
          <p:nvPr/>
        </p:nvPicPr>
        <p:blipFill>
          <a:blip r:embed="rId1"/>
          <a:stretch/>
        </p:blipFill>
        <p:spPr>
          <a:xfrm>
            <a:off x="5367240" y="1655640"/>
            <a:ext cx="2600280" cy="2076480"/>
          </a:xfrm>
          <a:prstGeom prst="rect">
            <a:avLst/>
          </a:prstGeom>
          <a:ln w="0">
            <a:noFill/>
          </a:ln>
        </p:spPr>
      </p:pic>
      <p:pic>
        <p:nvPicPr>
          <p:cNvPr id="147"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9"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MC Ques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roblems requiring elegant sol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Dawn</cp:lastModifiedBy>
  <dcterms:modified xsi:type="dcterms:W3CDTF">2011-04-22T21:54:34Z</dcterms:modified>
  <cp:revision>29</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